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5C3-55B6-46F6-9B99-5346021F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950-A4E9-49A8-9A01-B3DFDB93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9F6-ED8B-4D90-8822-719D9E18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B44-2AB3-49BB-98C6-8113B77A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ACE-37D9-48FE-854C-5D3BC60D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FB8-7C58-424D-95DE-7198F8D1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9CD-E9EF-4E6C-82DD-D3289105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70F-D169-4F66-8872-6DF35797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20F-E337-4EA5-969E-246395B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B6A-998B-4BD8-B9F0-6E7905E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7E7-6C6F-426E-A202-E2263FA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21A-73D6-4593-B8B2-3BBE6C66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27BF1-786F-4D4C-8113-EAB41117FA4F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10.02.2021 № 60 «Об утверждении Порядка предоставления субсидий из бюджета Воронежской области на осуществление компенсации производителям муки части затрат на закупку продовольственной пшени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муки из зерновых культур (код вида экономической деятельности в соответствии с Общероссийским классификатором видов экономической деятельности (ОК 029-2014 (КДЕС Ред. 2)) - 10.61.2)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153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в текущем году на приобретение продовольственной пшениц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принял обязательство по неповышению цен на муку в период предоставления иного межбюджетного трансферта из федерального бюджета бюджету Воронеж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е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получает средства из бюджета Воронежской области на основании иных нормативных правовых актов Воронежской области на цели, установленные пунктом 3 настоящего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участник отбора имеет в наличии мощности для производства м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414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оизводителям муки части затрат (без учета налога на добавленную стоимость), связанных с приобретением продовольственной пшеницы, в рамках реализации государственной программы Воронежской области 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57480" y="20913840"/>
            <a:ext cx="32195880" cy="140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за месяц, указанный в справке-расчете размера субсидии, о производстве и отгрузке товаров и услуг по форме федерального статистического наблюдения № П-1, утвержденной приказом Федеральной службы государственной статистики, действующей в месяце, указанном в справке-расчете размера субсиди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ведения о производстве и реализации продукции по форме согласно приложению № 3 к Порядку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 от 24.07.2020 № 411 «Об утверждении форм федерального статистического наблюдения для организации федерального статистического наблюдения за деятельностью предприятий»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правку о наличии мощностей для производства муки по форме согласно приложению № 4 к Порядку за год, предшествующий году подачи заявки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копии документов, подтверждающих приобретение продовольственной пшеницы (договоры купли-продажи, товарные накладные или универсальные передаточные документы, платежные документ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ведения об отпускной цене на реализуемую муку по форме согласно приложению № 5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отчетность о финансово-экономическом состоянии получателей субсидий за год, предшествующий году получения субсидий, по форме, утвержденной Департаментом (за исключением получателей субсидий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37:34Z</dcterms:modified>
  <cp:revision>102</cp:revision>
  <dc:subject/>
  <dc:title>Презентация PowerPoint</dc:title>
</cp:coreProperties>
</file>