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F2F-DC08-487E-A945-B9A42615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276-1C87-426D-96F3-D585AD1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D5D-D1BB-4441-AE4B-7FF39B0B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459-D2A2-419B-9324-E64705A1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A21-092B-44F8-BF47-CA0629AD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265-92AA-4188-B07C-A8BDC8E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AC0-89BA-4CE4-B15D-C9D4D3FC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CD9-D79A-41C8-9DBA-049FDC6C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A4C-28F7-4054-B58C-CEEB59B6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5E9-E1CB-459F-8E84-15A77CDB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198-D851-45C8-9308-922D3B66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843-D8A3-426B-9D46-12631CF7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85B40-CB77-44D8-85A2-173703409C23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09.02.2021 № 57 «Об утверждении Порядка предоставления субсидий из бюджета Воронежской области на осуществление компенсации предприятиям хлебопекарной промышленности части затрат на реализацию произведенных и реализованных хлеба и хлебобулочных издел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хлеба и хлебобулочных изделий недлительного хранения (со сроком годности менее 5 суток) (код вида экономической деятельности в соответствии с Общероссийским классификатором видов экономической деятельности (ОК 029-2014 (КДЕС Ред. 2)) - 10.71.1)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153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в текущем году на реализацию произведенных и реализованных хлеба и хлебобулочных издел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принял обязательство о неповышении в месяц получения компенсации цены на хлеб и хлебобулочные изделия по отношению к средней цене, сложившейся у предприятия в месяце, предшествующем месяцу получения компенс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ю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получает средства из бюджета Воронежской области на основании иных нормативных правовых актов Воронежской области на цели, установленные пунктом 3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участник отбора имеет в наличии мощности для производства хлеба и хлебобулочных изд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414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едприятиям хлебопекарной промышленности части затрат на реализацию произведенных и реализованных хлеба и хлебобулочных изделий (без учета налога на добавленную стоимость) в рамках реализац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57480" y="20913840"/>
            <a:ext cx="32195880" cy="129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 от 24.07.2020 № 411 «Об утверждении форм федерального статистического наблюдения для организации федерального статистического наблюдения за деятельностью предприятий»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правку о наличии мощностей для производства хлеба и хлебобулочных изделий по форме согласно приложению № 3 к Порядку за год, предшествующий году подачи заявки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за месяц, указанный в справке-расчете размера субсидии, о производстве и отгрузке товаров и услуг по форме федерального статистического наблюдения № П-1, утвержденной приказом Федеральной службы государственной статистики, действующей в месяце, указанном в справке-расчете размера субсиди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ведения о производстве и реализации хлеба и хлебобулочных изделий по форме согласно приложению № 4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ведения о понесенных затратах на реализацию произведенных и реализованных хлеба и хлебобулочных изделий по форме согласно приложению № 5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ведения об отпускной цене на реализуемые хлеб и хлебобулочные изделия по форме согласно приложению № 6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отчетность о финансово-экономическом состоянии получателей субсидий за год, предшествующий году получения субсидий, по форме, утвержденной Департаментом (за исключением получателей субсидий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38:33Z</dcterms:modified>
  <cp:revision>93</cp:revision>
  <dc:subject/>
  <dc:title>Презентация PowerPoint</dc:title>
</cp:coreProperties>
</file>