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0426-3812-4722-88AB-057AC9C2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8C7-91A3-4AF1-9E61-AE1D8C89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729-F169-4897-B35B-FF1EEB7E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D50-FD63-4893-A2DA-92072EC6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11C-AF88-4E80-9281-B5CE7AC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773-C0B0-466B-A121-F5B2DE6B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048-EA45-4545-AD6F-6D61999A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80B-A32A-41C9-A78F-A49BB7EB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006-68D7-4E17-9560-594F4A8E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403-2AA5-4564-8919-21A2B510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102-20F8-4C93-A74A-FEF3854D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C8A-0105-4899-827F-25871E30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1D4AF-3AC0-475D-B7E5-6BEF8BD72BA8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575052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30.04.2021 № 256 «Об утверждении Порядка предоставления субсидий из бюджета Воронежской области на возмещение производителям масла подсолнечного и (или) производителям сахара белого части затрат на производство и реализацию рафинированного бутилированного масла подсолнечного и (или) сахара белого в организации розничной торговли в 2021 го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организации и индивидуальные предприниматели, осуществляющие первичную и (или) последующую (промышленную) переработку сельскохозяйственной продукции, а именно организации и индивидуальные предприниматели, занимающиеся производством масла подсолнечного и (или) сахара белого, поставленные на учет в налоговых органах Воронежской области, осуществляющие деятельность на территории Воронежской области и соответствующие требованиям, установленным пунктом 5 Порядка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3559320" y="6354720"/>
            <a:ext cx="2648412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3975120" y="9461520"/>
            <a:ext cx="26484120" cy="25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4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155320" y="1249200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155320" y="148035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после окончания срока приема доку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в пункте 5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90840" y="183006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36360" y="2507148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в соответствии с пунктом 9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3 По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725200" y="36434880"/>
            <a:ext cx="9918720" cy="33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20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позднее 10-го рабочего дня, следующего за днем принятия решения о предоставлении субсид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5 декабря текущего год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879480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108720" y="12015720"/>
            <a:ext cx="46080" cy="4874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16560" y="14385960"/>
            <a:ext cx="44280" cy="414360"/>
          </a:xfrm>
          <a:prstGeom prst="downArrow">
            <a:avLst>
              <a:gd name="adj1" fmla="val 50000"/>
              <a:gd name="adj2" fmla="val 5021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05360" y="355093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10958400" y="234457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72674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083160" y="47149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6122880" y="1689264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38360" y="2346156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33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на производство и реализацию масла подсолнечного и (или) сахара белого, реализованных в организации розничной торговли в период с 1 апреля 2021 года по 30 сентября 2021 года включи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астник отбора реализовал масло подсолнечное в организации розничной торговли по цене, не превышающей 95 рублей за 1 литр (включая налог на добавленную стоимость) на условиях FCA (передача на складе грузоотправителя с погрузкой на транспортное средство грузополучателя), и (или) на условиях EXW (передача на складе грузоотправителя), и (или) на иных условиях поставки за вычетом дополнительных расходов на доставку, и (или) сахар белый по цене, не превышающей 36 рублей за 1 килограмм (включая налог на добавленную стоимость) на условиях FCA (передача на складе грузоотправителя с погрузкой на транспортное средство грузополучателя), и (или) на условиях EXW (передача на складе грузоотправителя), и (или) на иных условиях поставки за вычетом дополнительных расходов на фасовку и достав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е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астник отбора не должен получать средства из бюджета Воронежской области на основании иных нормативных правовых актов Воронежской области на цели, установленные пунктом 3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2604960"/>
            <a:ext cx="32195880" cy="476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возмещение производителям масла подсолнечного и (или) производителям сахара белого части затрат без учета налога на добавленную стоимость, связанных с производством и реализацией масла подсолнечного и (или) сахара белого в организации розничной торговли, по ставке на 1 литр произведенного и реализованного масла подсолнечного по цене, не превышающей 95 рублей за 1 литр, включая налог на добавленную стоимость, и (или) на 1 килограмм сахара белого по цене, не превышающей 36 рублей за 1 килограмм, включая налог на добавленную стоимость, в рамках реализац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 «Об утвержден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1797120" y="22410720"/>
            <a:ext cx="32195880" cy="1172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ведения о производстве, отгрузке продукции и балансе производственных мощностей по форме федерального статистического наблюдения № 1-натура-БМ, утвержденной приказом Федеральной службы государственной статистики, за год, предшествующий году подачи заявк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окументы, подтверждающие факт реализации в организации розничной торгов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говоров реализации масла подсолнечного и (или) сахара белого, заключенных с организациями розничной торгов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 накладных или универсальных передаточных документов, подтверждающих факт реализации масла подсолнечного и (или) сахара белого в организации розничной торговли за месяц, указанный в справке-расчете по форме согласно приложению № 3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тчетность о финансово-экономическом состоянии участника отбора за год, предшествующий году получения субсидий, по форме, утвержденной Департаментом (за исключением участника отбора, поставленного на учет в налоговых органах и начавшего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согласие на обработку персональных данных (для физического лиц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4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(или) ее копия или иной документ, подтверждающий полномочия уполномоченного лица на заверение документов, указанных в пункте 14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апрашивает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, справку налогового органа об отсутствии у получателя субсидии просроченной задолженности по налоговым и иным обязательным платежам, выписку из Единого государственного реестра юридических лиц или Единого государственного реестра индивидуальных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10:40:10Z</dcterms:modified>
  <cp:revision>112</cp:revision>
  <dc:subject/>
  <dc:title>Презентация PowerPoint</dc:title>
</cp:coreProperties>
</file>