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36180713" cy="51120675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BB30-D23C-423C-81D1-43073F5C2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87600" y="13608000"/>
            <a:ext cx="3120552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87600" y="30549960"/>
            <a:ext cx="3120552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FDB2-3F21-4B95-A16B-67A81529B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87600" y="1360800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477360" y="1360800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87600" y="3054996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477360" y="3054996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222D-0F19-43C3-8B97-DD5375DC5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87600" y="13608000"/>
            <a:ext cx="1004796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038480" y="13608000"/>
            <a:ext cx="1004796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3589000" y="13608000"/>
            <a:ext cx="1004796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87600" y="30549960"/>
            <a:ext cx="1004796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3038480" y="30549960"/>
            <a:ext cx="1004796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3589000" y="30549960"/>
            <a:ext cx="1004796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698A-BDEE-4453-A696-D88CF8C5E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87600" y="13608000"/>
            <a:ext cx="31205520" cy="3243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963"/>
              </a:spcBef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11B7-724E-4312-AADB-B8D40567B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87600" y="13608000"/>
            <a:ext cx="31205520" cy="324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BEFA-25D4-46A7-B7D9-F8370D79E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87600" y="13608000"/>
            <a:ext cx="15228000" cy="324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477360" y="13608000"/>
            <a:ext cx="15228000" cy="324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7818-7967-4489-AF35-FE5C12AD9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FBDD-2670-4A3B-877D-63F5F4688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87600" y="2720520"/>
            <a:ext cx="31205520" cy="458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963"/>
              </a:spcBef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452B-9822-4951-9F29-34E429F96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87600" y="1360800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477360" y="13608000"/>
            <a:ext cx="15228000" cy="324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87600" y="3054996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CBB9-E86D-4F1A-BBA7-94CC84144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87600" y="13608000"/>
            <a:ext cx="15228000" cy="324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477360" y="1360800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477360" y="3054996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1C9A-D932-47BD-8274-3E786104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87600" y="1360800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477360" y="1360800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87600" y="30549960"/>
            <a:ext cx="3120552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5A0F-60AD-44DB-A46C-90724EA0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r>
              <a:rPr b="0" lang="en-US" sz="17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87600" y="13608000"/>
            <a:ext cx="31205520" cy="324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240" indent="-903240">
              <a:lnSpc>
                <a:spcPct val="90000"/>
              </a:lnSpc>
              <a:spcBef>
                <a:spcPts val="3963"/>
              </a:spcBef>
              <a:buClr>
                <a:srgbClr val="000000"/>
              </a:buClr>
              <a:buFont typeface="Arial"/>
              <a:buChar char="•"/>
              <a:tabLst>
                <a:tab algn="l" pos="3618000"/>
                <a:tab algn="l" pos="7236000"/>
                <a:tab algn="l" pos="108536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 lvl="1" marL="2712960" indent="-903240">
              <a:lnSpc>
                <a:spcPct val="90000"/>
              </a:lnSpc>
              <a:spcBef>
                <a:spcPts val="3963"/>
              </a:spcBef>
              <a:buClr>
                <a:srgbClr val="000000"/>
              </a:buClr>
              <a:buFont typeface="Arial"/>
              <a:buChar char="•"/>
              <a:tabLst>
                <a:tab algn="l" pos="3618000"/>
                <a:tab algn="l" pos="7236000"/>
                <a:tab algn="l" pos="108536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 lvl="2" marL="4521240" indent="-903240">
              <a:lnSpc>
                <a:spcPct val="90000"/>
              </a:lnSpc>
              <a:spcBef>
                <a:spcPts val="3963"/>
              </a:spcBef>
              <a:buClr>
                <a:srgbClr val="000000"/>
              </a:buClr>
              <a:buFont typeface="Arial"/>
              <a:buChar char="•"/>
              <a:tabLst>
                <a:tab algn="l" pos="3618000"/>
                <a:tab algn="l" pos="7236000"/>
                <a:tab algn="l" pos="108536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 lvl="3" marL="6330960" indent="-903240">
              <a:lnSpc>
                <a:spcPct val="90000"/>
              </a:lnSpc>
              <a:spcBef>
                <a:spcPts val="3963"/>
              </a:spcBef>
              <a:buClr>
                <a:srgbClr val="000000"/>
              </a:buClr>
              <a:buFont typeface="Arial"/>
              <a:buChar char="•"/>
              <a:tabLst>
                <a:tab algn="l" pos="3618000"/>
                <a:tab algn="l" pos="7236000"/>
                <a:tab algn="l" pos="108536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 lvl="4" marL="8140680" indent="-903240">
              <a:lnSpc>
                <a:spcPct val="90000"/>
              </a:lnSpc>
              <a:spcBef>
                <a:spcPts val="3963"/>
              </a:spcBef>
              <a:buClr>
                <a:srgbClr val="000000"/>
              </a:buClr>
              <a:buFont typeface="Arial"/>
              <a:buChar char="•"/>
              <a:tabLst>
                <a:tab algn="l" pos="3618000"/>
                <a:tab algn="l" pos="7236000"/>
                <a:tab algn="l" pos="108536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 lvl="5" marL="8140680" indent="-903240">
              <a:lnSpc>
                <a:spcPct val="90000"/>
              </a:lnSpc>
              <a:spcBef>
                <a:spcPts val="3963"/>
              </a:spcBef>
              <a:buClr>
                <a:srgbClr val="000000"/>
              </a:buClr>
              <a:buFont typeface="Arial"/>
              <a:buChar char="•"/>
              <a:tabLst>
                <a:tab algn="l" pos="3618000"/>
                <a:tab algn="l" pos="7236000"/>
                <a:tab algn="l" pos="108536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 lvl="6" marL="8140680" indent="-903240">
              <a:lnSpc>
                <a:spcPct val="90000"/>
              </a:lnSpc>
              <a:spcBef>
                <a:spcPts val="3963"/>
              </a:spcBef>
              <a:buClr>
                <a:srgbClr val="000000"/>
              </a:buClr>
              <a:buFont typeface="Arial"/>
              <a:buChar char="•"/>
              <a:tabLst>
                <a:tab algn="l" pos="3618000"/>
                <a:tab algn="l" pos="7236000"/>
                <a:tab algn="l" pos="108536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87240" y="47380680"/>
            <a:ext cx="8140680" cy="27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4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7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985480" y="47380680"/>
            <a:ext cx="12209760" cy="27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5552080" y="47380680"/>
            <a:ext cx="8140680" cy="27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4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EEEA4E-C1DA-4808-82A6-6759A4101054}" type="slidenum">
              <a:rPr b="0" lang="ru-RU" sz="47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5"/>
          <p:cNvSpPr/>
          <p:nvPr/>
        </p:nvSpPr>
        <p:spPr>
          <a:xfrm>
            <a:off x="880920" y="706320"/>
            <a:ext cx="34756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ок-схема предоставления мер государственной поддерж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постановлением правительства Воронежской области от 13.08.2018 № 682 «Об утверждении Порядка предоставления субсидии из областного бюджета сельскохозяйственным товаропроизводителям (за исключением граждан, ведущих личное подсобное хозяйство) на поддержку рыбоводств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 на получение субсидий имеют сельскохозяйственные товаропроизводители (за исключением граждан, ведущих личное подсобное хозяйство), зарегистрированные и осуществляющие деятельность на территории Воронежской области, соответствующие требованиям, установленным пунктом 9 Порядка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6"/>
          <p:cNvSpPr/>
          <p:nvPr/>
        </p:nvSpPr>
        <p:spPr>
          <a:xfrm>
            <a:off x="4834080" y="5467320"/>
            <a:ext cx="26484120" cy="172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щение департаментом аграрной политики Воронежской области объявления о проведении отбора на  Едином портале бюджетной системы Российской Федерации в информационно-телекоммуникационной сети «Интернет», а также в информационной системе «Портал Воронежской области в сети Интернет» на странице Департам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9"/>
          <p:cNvSpPr/>
          <p:nvPr/>
        </p:nvSpPr>
        <p:spPr>
          <a:xfrm>
            <a:off x="4862520" y="7854840"/>
            <a:ext cx="26484120" cy="494676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ение участником отбора в Департамент в срок, установленный Департаментом в объявлении о проведении отбора, заявки на участие в отборе по форме согласно приложению № 1 к Порядку с приложением документов, указанных в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нкте 13 Порядка 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 отбора вправе в любое время отозвать поданную заявку, внести изменения в поданную заяв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36"/>
          <p:cNvSpPr/>
          <p:nvPr/>
        </p:nvSpPr>
        <p:spPr>
          <a:xfrm>
            <a:off x="11266560" y="13323960"/>
            <a:ext cx="14238360" cy="189396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заявки Департамен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38"/>
          <p:cNvSpPr/>
          <p:nvPr/>
        </p:nvSpPr>
        <p:spPr>
          <a:xfrm>
            <a:off x="11266560" y="15717960"/>
            <a:ext cx="14238360" cy="243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ие Департаментом решения о принятии заявки к рассмотрению либо об отклонении зая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срок, не превышающий 10 рабочих дней с даты регистрации заяв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45"/>
          <p:cNvSpPr/>
          <p:nvPr/>
        </p:nvSpPr>
        <p:spPr>
          <a:xfrm>
            <a:off x="1830240" y="18469080"/>
            <a:ext cx="9028440" cy="251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ие заявки к рассмотрени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46"/>
          <p:cNvSpPr/>
          <p:nvPr/>
        </p:nvSpPr>
        <p:spPr>
          <a:xfrm>
            <a:off x="26681040" y="18562680"/>
            <a:ext cx="7902720" cy="984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лонение зая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ниями для отклонения заявки участника отбора на стадии рассмотрения и оценки заявок являю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соответствие участника отбора требованиям, установленным пунктами 4, 9 Поряд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соответствие представленных участником отбора заявок и документов требованиям к заявкам участников отбора, установленным в объявлении о проведении отбо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достоверность представленной участником отбора информации, в том числе информации о месте нахождения и адресе юридического лиц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дача участником отбора заявки после даты, определенной для подачи заяв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48"/>
          <p:cNvSpPr/>
          <p:nvPr/>
        </p:nvSpPr>
        <p:spPr>
          <a:xfrm>
            <a:off x="14163840" y="19242000"/>
            <a:ext cx="7902360" cy="440856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щение информации о результатах рассмотрения заявок на Едином портале, а также в информационной системе «Портал Воронежской области в сети Интернет» на странице Департамен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течение 5 дней со дня принятия решения по результатам рассмотрения заяв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1925640" y="21891600"/>
            <a:ext cx="9028080" cy="288756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ие Департаментом решения о предоставлении субсидии либо об отказе в ее предоставл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срок, не превышающий 10 рабочих дней с даты регистрации заяв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7"/>
          <p:cNvSpPr/>
          <p:nvPr/>
        </p:nvSpPr>
        <p:spPr>
          <a:xfrm>
            <a:off x="11795040" y="25752600"/>
            <a:ext cx="10074240" cy="1045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аз в предоставлении субсид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ниями для отказа участнику отбора в предоставлении субсидии являю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соответствие представленных участником отбора документов требованиям, определенным пунктом 13 Порядка, или непредставление (представление не в полном объеме) указанных документ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становление факта недостоверности, представленной участником отбора информ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выполнение целей и условий предоставления субсидий, установленных Порядк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каз получателя субсидии от заключения Соглаш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клонение получателя субсидии от заключения Соглашения в сроки, установленные пунктом 21 Поряд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сутствие лимитов бюджетных обязательств на предоставление субсид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8"/>
          <p:cNvSpPr/>
          <p:nvPr/>
        </p:nvSpPr>
        <p:spPr>
          <a:xfrm>
            <a:off x="11666520" y="37142640"/>
            <a:ext cx="9918720" cy="335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енное уведомление участника отбора об отказе в предоставлении субсидии с указанием причины принятия соответствующего ре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течение 5 дней со дн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ия реше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0"/>
          <p:cNvSpPr/>
          <p:nvPr/>
        </p:nvSpPr>
        <p:spPr>
          <a:xfrm>
            <a:off x="2112840" y="29548080"/>
            <a:ext cx="7380360" cy="288936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ение участника отбора в реестр получателей субсидии на оплату из бюджета Воронежской обл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р субсидии рассчитывается в соответствии с пунктом 18 Поряд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1"/>
          <p:cNvSpPr/>
          <p:nvPr/>
        </p:nvSpPr>
        <p:spPr>
          <a:xfrm>
            <a:off x="2152800" y="26411400"/>
            <a:ext cx="7380000" cy="251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домление участника отбора о принятом решении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течение 5 дней со дн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ия реше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2"/>
          <p:cNvSpPr/>
          <p:nvPr/>
        </p:nvSpPr>
        <p:spPr>
          <a:xfrm>
            <a:off x="1868400" y="33169320"/>
            <a:ext cx="7400880" cy="356400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ение Соглашения о предоставлении субсид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течение 10 рабочих дней с даты принятия решения о предоставлении субсидии) либо отказ участника отбора от заключения Согла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3"/>
          <p:cNvSpPr/>
          <p:nvPr/>
        </p:nvSpPr>
        <p:spPr>
          <a:xfrm>
            <a:off x="1932120" y="37441080"/>
            <a:ext cx="7380000" cy="238464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исление субсид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6"/>
          <p:cNvSpPr/>
          <p:nvPr/>
        </p:nvSpPr>
        <p:spPr>
          <a:xfrm>
            <a:off x="1962000" y="40495680"/>
            <a:ext cx="7380360" cy="251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ение получателем субсидии отчета о достижении результатов предоставления субсид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срок до 10 февраля года, следующего за годом получения субсидии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трелка: вправо 17"/>
          <p:cNvSpPr/>
          <p:nvPr/>
        </p:nvSpPr>
        <p:spPr>
          <a:xfrm>
            <a:off x="9310680" y="34971120"/>
            <a:ext cx="946080" cy="13644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трелка: вниз 20"/>
          <p:cNvSpPr/>
          <p:nvPr/>
        </p:nvSpPr>
        <p:spPr>
          <a:xfrm>
            <a:off x="18127800" y="7188120"/>
            <a:ext cx="46080" cy="666720"/>
          </a:xfrm>
          <a:prstGeom prst="downArrow">
            <a:avLst>
              <a:gd name="adj1" fmla="val 50000"/>
              <a:gd name="adj2" fmla="val 49971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трелка: вниз 22"/>
          <p:cNvSpPr/>
          <p:nvPr/>
        </p:nvSpPr>
        <p:spPr>
          <a:xfrm>
            <a:off x="18052920" y="12819240"/>
            <a:ext cx="46080" cy="487080"/>
          </a:xfrm>
          <a:prstGeom prst="downArrow">
            <a:avLst>
              <a:gd name="adj1" fmla="val 50000"/>
              <a:gd name="adj2" fmla="val 49915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трелка: вниз 23"/>
          <p:cNvSpPr/>
          <p:nvPr/>
        </p:nvSpPr>
        <p:spPr>
          <a:xfrm>
            <a:off x="18099000" y="15217920"/>
            <a:ext cx="44640" cy="414360"/>
          </a:xfrm>
          <a:prstGeom prst="downArrow">
            <a:avLst>
              <a:gd name="adj1" fmla="val 50000"/>
              <a:gd name="adj2" fmla="val 49806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трелка: вниз 27"/>
          <p:cNvSpPr/>
          <p:nvPr/>
        </p:nvSpPr>
        <p:spPr>
          <a:xfrm>
            <a:off x="6105600" y="20966040"/>
            <a:ext cx="46080" cy="925560"/>
          </a:xfrm>
          <a:prstGeom prst="downArrow">
            <a:avLst>
              <a:gd name="adj1" fmla="val 50000"/>
              <a:gd name="adj2" fmla="val 49936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трелка: вниз 32"/>
          <p:cNvSpPr/>
          <p:nvPr/>
        </p:nvSpPr>
        <p:spPr>
          <a:xfrm flipH="1">
            <a:off x="16656120" y="36222120"/>
            <a:ext cx="108000" cy="92700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трелка: вниз 34"/>
          <p:cNvSpPr/>
          <p:nvPr/>
        </p:nvSpPr>
        <p:spPr>
          <a:xfrm>
            <a:off x="5925960" y="32457960"/>
            <a:ext cx="44640" cy="725400"/>
          </a:xfrm>
          <a:prstGeom prst="downArrow">
            <a:avLst>
              <a:gd name="adj1" fmla="val 50000"/>
              <a:gd name="adj2" fmla="val 49803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трелка: вниз 37"/>
          <p:cNvSpPr/>
          <p:nvPr/>
        </p:nvSpPr>
        <p:spPr>
          <a:xfrm>
            <a:off x="5989680" y="39811320"/>
            <a:ext cx="44280" cy="652320"/>
          </a:xfrm>
          <a:prstGeom prst="downArrow">
            <a:avLst>
              <a:gd name="adj1" fmla="val 50000"/>
              <a:gd name="adj2" fmla="val 50197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трелка: вниз 44"/>
          <p:cNvSpPr/>
          <p:nvPr/>
        </p:nvSpPr>
        <p:spPr>
          <a:xfrm>
            <a:off x="6000840" y="24711120"/>
            <a:ext cx="46080" cy="1689120"/>
          </a:xfrm>
          <a:prstGeom prst="downArrow">
            <a:avLst>
              <a:gd name="adj1" fmla="val 50000"/>
              <a:gd name="adj2" fmla="val 49893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трелка: вправо 51"/>
          <p:cNvSpPr/>
          <p:nvPr/>
        </p:nvSpPr>
        <p:spPr>
          <a:xfrm>
            <a:off x="6081840" y="16822800"/>
            <a:ext cx="5105160" cy="46080"/>
          </a:xfrm>
          <a:prstGeom prst="rightArrow">
            <a:avLst>
              <a:gd name="adj1" fmla="val 50000"/>
              <a:gd name="adj2" fmla="val 49752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трелка: вниз 52"/>
          <p:cNvSpPr/>
          <p:nvPr/>
        </p:nvSpPr>
        <p:spPr>
          <a:xfrm>
            <a:off x="18029160" y="18208800"/>
            <a:ext cx="46080" cy="1001520"/>
          </a:xfrm>
          <a:prstGeom prst="downArrow">
            <a:avLst>
              <a:gd name="adj1" fmla="val 50000"/>
              <a:gd name="adj2" fmla="val 4990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трелка: вниз 54"/>
          <p:cNvSpPr/>
          <p:nvPr/>
        </p:nvSpPr>
        <p:spPr>
          <a:xfrm>
            <a:off x="30586320" y="16917840"/>
            <a:ext cx="46080" cy="1598760"/>
          </a:xfrm>
          <a:prstGeom prst="downArrow">
            <a:avLst>
              <a:gd name="adj1" fmla="val 50000"/>
              <a:gd name="adj2" fmla="val 49955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трелка: вниз 18"/>
          <p:cNvSpPr/>
          <p:nvPr/>
        </p:nvSpPr>
        <p:spPr>
          <a:xfrm flipH="1">
            <a:off x="6012000" y="28905120"/>
            <a:ext cx="46080" cy="595440"/>
          </a:xfrm>
          <a:prstGeom prst="downArrow">
            <a:avLst>
              <a:gd name="adj1" fmla="val 50000"/>
              <a:gd name="adj2" fmla="val 49953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трелка: вниз 21"/>
          <p:cNvSpPr/>
          <p:nvPr/>
        </p:nvSpPr>
        <p:spPr>
          <a:xfrm rot="10800000">
            <a:off x="10186920" y="29501640"/>
            <a:ext cx="90720" cy="5475240"/>
          </a:xfrm>
          <a:prstGeom prst="downArrow">
            <a:avLst>
              <a:gd name="adj1" fmla="val 50000"/>
              <a:gd name="adj2" fmla="val 49735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Стрелка: вправо 24"/>
          <p:cNvSpPr/>
          <p:nvPr/>
        </p:nvSpPr>
        <p:spPr>
          <a:xfrm>
            <a:off x="10256760" y="29406960"/>
            <a:ext cx="1527120" cy="12528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трелка: вниз 25"/>
          <p:cNvSpPr/>
          <p:nvPr/>
        </p:nvSpPr>
        <p:spPr>
          <a:xfrm>
            <a:off x="5923080" y="36739440"/>
            <a:ext cx="68040" cy="669960"/>
          </a:xfrm>
          <a:prstGeom prst="downArrow">
            <a:avLst>
              <a:gd name="adj1" fmla="val 50000"/>
              <a:gd name="adj2" fmla="val 50145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трелка: вправо 51"/>
          <p:cNvSpPr/>
          <p:nvPr/>
        </p:nvSpPr>
        <p:spPr>
          <a:xfrm>
            <a:off x="25468200" y="16913160"/>
            <a:ext cx="5105520" cy="46080"/>
          </a:xfrm>
          <a:prstGeom prst="rightArrow">
            <a:avLst>
              <a:gd name="adj1" fmla="val 50000"/>
              <a:gd name="adj2" fmla="val 49756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трелка: вниз 54"/>
          <p:cNvSpPr/>
          <p:nvPr/>
        </p:nvSpPr>
        <p:spPr>
          <a:xfrm>
            <a:off x="6049800" y="16881480"/>
            <a:ext cx="46080" cy="1598760"/>
          </a:xfrm>
          <a:prstGeom prst="downArrow">
            <a:avLst>
              <a:gd name="adj1" fmla="val 50000"/>
              <a:gd name="adj2" fmla="val 49955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трелка: вниз 54"/>
          <p:cNvSpPr/>
          <p:nvPr/>
        </p:nvSpPr>
        <p:spPr>
          <a:xfrm>
            <a:off x="18221400" y="3827520"/>
            <a:ext cx="46080" cy="1598400"/>
          </a:xfrm>
          <a:prstGeom prst="downArrow">
            <a:avLst>
              <a:gd name="adj1" fmla="val 50000"/>
              <a:gd name="adj2" fmla="val 49944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трелка: вправо 51"/>
          <p:cNvSpPr/>
          <p:nvPr/>
        </p:nvSpPr>
        <p:spPr>
          <a:xfrm>
            <a:off x="10931400" y="24037920"/>
            <a:ext cx="5105520" cy="46080"/>
          </a:xfrm>
          <a:prstGeom prst="rightArrow">
            <a:avLst>
              <a:gd name="adj1" fmla="val 50000"/>
              <a:gd name="adj2" fmla="val 49756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трелка: вниз 54"/>
          <p:cNvSpPr/>
          <p:nvPr/>
        </p:nvSpPr>
        <p:spPr>
          <a:xfrm>
            <a:off x="16008480" y="24128280"/>
            <a:ext cx="46080" cy="1598760"/>
          </a:xfrm>
          <a:prstGeom prst="downArrow">
            <a:avLst>
              <a:gd name="adj1" fmla="val 50000"/>
              <a:gd name="adj2" fmla="val 49955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2"/>
          <p:cNvSpPr/>
          <p:nvPr/>
        </p:nvSpPr>
        <p:spPr>
          <a:xfrm>
            <a:off x="2106720" y="8386920"/>
            <a:ext cx="32195880" cy="1078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Требования к участникам отбора, которым должен соответствовать участник отбора на дату подачи заявки на участие в отбор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участник отбора понес затраты на приобретение рыбопосадочного материала осетровых, лососевых и товарных пород рыб, за реализованную рыбу осетровых, лососевых и товарных пород, произведенную в хозяйстве, за реализованный рыбопосадочный материал осетровых, лососевых и товарных пород рыб, произведенный в хозяйстве в предыдущем год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у участника отбора должна отсутствовать неисполненная обязанность по уплате налогов, сборов, страховых взносов, пеней, штрафов, процентов, подлежащих уплате в соответствии с законодательством Российской Федерации о налогах и сбор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у участника отбора должна отсутствовать просроченная задолженность по возврату в бюджет Воронежской области субсидий, бюджетных инвестиций, предоставленных в том числе в соответствии с иными правовыми актами, а также иная просроченная (неурегулированная) задолженность по денежным обязательствам перед Воронежской область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участники отбора - юридические лица не должны находиться в процессе реорганизации (за исключением реорганизации в форме присоединения к юридическому лицу, являющемуся участником отбора, другого юридического лица), ликвидации, в отношении них не введена процедура банкротства, деятельность участника отбора не приостановлена в порядке, предусмотренном законодательством Российской Федерации, а участники отбора - индивидуальные предприниматели не должны прекратить деятельность в качестве индивидуального предпринимател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) в реестре дисквалифицированных лиц отсутствуют сведения о дисквалифицированных руководителе, членах коллегиального исполнительного органа, лице, исполняющем функции единоличного исполнительного органа, или главном бухгалтере участника отбора, являющегося юридическим лицом, об индивидуальном предпринимателе, являющемся участником отбо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) участник отбора не должен являться иностранным юридическим лицом, а также российским юридическим лицом, в уставном (складочном) капитале которого доля участия иностранных юридических лиц, местом регистрации которых являются государство или территория, включенные в утвержденный Министерством финансов Российской Федерации перечень государств и территорий, предоставляющих льготный налоговый режим налогообложения и (или) не предусматривающих раскрытия и предоставления информации при проведении финансовых операций (офшорные зоны), в совокупности превышает 50 процент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) участник отбора не должен получать средства из бюджета Воронежской области на основании иных нормативных правовых актов Воронежской области на цели, установленные пунктом 2 Поряд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1"/>
          <p:cNvSpPr/>
          <p:nvPr/>
        </p:nvSpPr>
        <p:spPr>
          <a:xfrm>
            <a:off x="2138400" y="3387600"/>
            <a:ext cx="3219588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ю предоставления субсидий является компенсация сельскохозяйственным товаропроизводителям (за исключением граждан, ведущих личное подсобное хозяйство) части затрат, понесенных на приобретение рыбопосадочного материала осетровых, лососевых и товарных пород рыб, за реализованную рыбу осетровых, лососевых и товарных пород, произведенную в данном хозяйстве, за реализованный рыбопосадочный материал осетровых, лососевых и товарных пород рыб, произведенный в данном хозяйстве, в рамках реализации мероприятия 13.6.11 «Предоставление субсидий сельскохозяйственным товаропроизводителям (за исключением граждан, ведущих личное подсобное хозяйство) на поддержку рыбоводства» основного мероприятия 13.6 «Поддержка сельскохозяйственного производства по отдельным подотраслям растениеводства и животноводства» подпрограммы 13 «Развитие отраслей агропромышленного комплекса» государственной программы Воронежской области «Развитие сельского хозяйства, производства пищевых продуктов и инфраструктуры агропродовольственного рынка», утвержденной постановлением правительства Воронежской области от 13.12.2013 № 108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Прямоугольник 1"/>
          <p:cNvSpPr/>
          <p:nvPr/>
        </p:nvSpPr>
        <p:spPr>
          <a:xfrm>
            <a:off x="2517840" y="2182680"/>
            <a:ext cx="32195880" cy="3370752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* Участник отбора одновременно с представлением заявки представляет в Департамент следующие докумен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возмещения части затрат на приобретение рыбопосадочного материала осетровых и лососевых пород рыб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четность о финансово-экономическом состоянии получателя субсидии за год, предшествующий году получения субсидии, по форме, утвержденной Департаментом (за исключением крестьянских (фермерских) хозяйств, поставленных на учет в налоговых органах и начавших свою производственную деятельность в отчетном финансовому году или году получения субсидии), в случае отсутствия отчетности в Департамент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правку-расчет размера субсидии по форме согласно приложению № 2 к Порядк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пии договоров (контрактов), товарных накладных, платежных документов на приобретенную молодь и (или) личинку рыб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пии ветеринарных сопроводительных документов на приобретенную молодь и (или) личинку рыб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ведения о руководителе, членах коллегиального исполнительного органа, лице, исполняющем функции единоличного исполнительного органа, и главном бухгалтере участника отбора, являющегося юридическим лицом, об индивидуальном предпринимателе, являющемся участником отбо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гласие на обработку персональных данных (для физического лица) по форме, утвержденной Департамен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возмещения части затрат за реализованную рыбу товарных пород, произведенную в данном хозяйств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четность о финансово-экономическом состоянии получателя субсидии за год, предшествующий году получения субсидии, по форме, утвержденной Департаментом (за исключением крестьянских (фермерских) хозяйств, поставленных на учет в налоговых органах и начавших свою производственную деятельность в отчетном финансовому году или году получения субсидии), в случае отсутствия отчетности в Департамент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правку-расчет размера субсидии по форме согласно приложению № 3 к Порядк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ведения о руководителе, членах коллегиального исполнительного органа, лице, исполняющем функции единоличного исполнительного органа, и главном бухгалтере участника отбора, являющегося юридическим лицом, об индивидуальном предпринимателе, являющемся участником отбо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ие на обработку персональных данных (для физического лица) по форме, утвержденной Департамен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возмещения части затрат за реализованную рыбу осетровых и лососевых пород, произведенную в хозяйств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четность о финансово-экономическом состоянии получателя субсидии за год, предшествующий году получения субсидии, по форме, утвержденной Департаментом (за исключением крестьянских (фермерских) хозяйств, поставленных на учет в налоговых органах и начавших свою производственную деятельность в отчетном финансовому году или году получения субсидии), в случае отсутствия отчетности в Департамент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правку-расчет размера субсидии по форме согласно приложению № 3 к Порядк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ведения о руководителе, членах коллегиального исполнительного органа, лице, исполняющем функции единоличного исполнительного органа, и главном бухгалтере участника отбора, являющегося юридическим лицом, об индивидуальном предпринимателе, являющемся участником отбо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ие на обработку персональных данных (для физического лица) по форме, утвержденной Департамен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возмещения части затрат на приобретение рыбопосадочного материала товарных пород рыб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четность о финансово-экономическом состоянии получателя субсидии за год, предшествующий году получения субсидии, по форме, утвержденной Департаментом (за исключением крестьянских (фермерских) хозяйств, поставленных на учет в налоговых органах и начавших свою производственную деятельность в отчетном финансовому году или году получения субсидии), в случае отсутствия отчетности в Департамент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правку-расчет размера субсидии по форме согласно приложению № 2 к Порядк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пии договоров (контрактов), товарных накладных, платежных документов на приобретенный рыбопосадочный матери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пии ветеринарных сопроводительных документов на приобретенный рыбопосадочный матери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ведения о руководителе, членах коллегиального исполнительного органа, лице, исполняющем функции единоличного исполнительного органа, и главном бухгалтере участника отбора, являющегося юридическим лицом, об индивидуальном предпринимателе, являющемся участником отбо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ие на обработку персональных данных (для физического лица) по форме, утвержденной Департамен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возмещения части затрат за реализованный рыбопосадочный материал осетровых и лососевых пород рыб, произведенный в хозяйств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четность о финансово-экономическом состоянии получателя субсидии за год, предшествующий году получения субсидии, по форме, утвержденной Департаментом (за исключением крестьянских (фермерских) хозяйств, поставленных на учет в налоговых органах и начавших свою производственную деятельность в отчетном финансовому году или году получения субсидии), в случае отсутствия отчетности в Департамент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правку-расчет размера субсидии по форме согласно приложению № 4 к Порядк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пии договоров (контрактов), товарных накладных, платежных документов на реализованный рыбопосадочный матери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пии ветеринарных сопроводительных документов за реализованный рыбопосадочный матери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ведения о руководителе, членах коллегиального исполнительного органа, лице, исполняющем функции единоличного исполнительного органа, и главном бухгалтере участника отбора, являющегося юридическим лицом, об индивидуальном предпринимателе, являющемся участником отбо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ие на обработку персональных данных (для физического лица) по форме, утвержденной Департамен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возмещения части затрат за реализованный рыбопосадочный материал товарных пород рыб, произведенный в хозяйств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четность о финансово-экономическом состоянии получателя субсидии за год, предшествующий году получения субсидии, по форме, утвержденной Департаментом (за исключением крестьянских (фермерских) хозяйств, поставленных на учет в налоговых органах и начавших свою производственную деятельность в отчетном финансовому году или году получения субсидии), в случае отсутствия отчетности в Департамент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правку-расчет размера субсидии по форме согласно приложению № 4 к  Порядк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пии договоров (контрактов), товарных накладных, платежных документов на реализацию рыбопосадочного материал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пии ветеринарных сопроводительных документов за реализованный рыбопосадочный матери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ведения о руководителе, членах коллегиального исполнительного органа, лице, исполняющем функции единоличного исполнительного органа, и главном бухгалтере участника отбора, являющегося юридическим лицом, об индивидуальном предпринимателе, являющемся участником отбо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гласие на обработку персональных данных (для физического лица) по форме, утвержденной Департамен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пии документов, указанных в пункте 13 Порядка, заверяются участником отбора либо уполномоченным должностным лицом и скрепляются печатью (при наличии). В случае если документы заверены уполномоченным лицом, предоставляются доверенность и ее копия или иной документ, подтверждающий полномочия уполномоченного лица на заверение документов, указанных в пункте 13 Поряд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 отбора вправе представить по собственной инициатив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выписку из Единого государственного реестра юридических лиц или Единого государственного реестра индивидуальных предпринимател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справку налогового органа об отсутствии у участника отбора просроченной задолженности по налогам и иным обязательным платеж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учае если участник отбора не представил по собственной инициативе документы, указанные в пункте 14 Порядка, Департамент запрашивает их самостоятельно в установленном порядке посредством межведомственного запроса, в том числе в электронной форме с использованием единой системы межведомственного электронного взаимодействия и подключаемых к ней региональных систем межведомственного электронного взаимодейств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0T14:20:26Z</dcterms:created>
  <dc:creator>Светличный Максим Владимирович</dc:creator>
  <dc:description/>
  <dc:language>en-US</dc:language>
  <cp:lastModifiedBy>tunina_i</cp:lastModifiedBy>
  <cp:lastPrinted>2021-08-11T09:50:44Z</cp:lastPrinted>
  <dcterms:modified xsi:type="dcterms:W3CDTF">2021-09-27T09:18:37Z</dcterms:modified>
  <cp:revision>79</cp:revision>
  <dc:subject/>
  <dc:title>Презентация PowerPoint</dc:title>
</cp:coreProperties>
</file>